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6.jpeg" ContentType="image/jpeg"/>
  <Override PartName="/ppt/media/image27.png" ContentType="image/png"/>
  <Override PartName="/ppt/media/image2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51D-B571-4287-8ADA-73811E05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C38-F4F6-4988-B780-329344B0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55E-FC02-4CB6-AD2A-080F122B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85E-3EFB-41C3-87E1-87E98616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744F-552B-4C47-955F-3E70494B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9AA1-0404-4436-A1CE-34354294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7683-4BF5-486F-9D09-3BF8344A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591B-65CA-448E-A7BF-18D8FCF8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47F4-11AE-4ADE-B5A9-CE5C4F47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F543-67BD-4A7D-9412-231AC2A9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575F-CBE3-43A3-ABB8-A307F282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873-8789-48DA-B6D5-44F9EE71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D576-95AA-419D-8604-143310D7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2FB9-63B0-4CB2-A9B8-71AE23C0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5FA8-9014-47D6-858C-9F2D43FC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F86E-F1E9-4DB7-9869-F472B322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8F6F-D9B5-4F78-8E1B-ECA66B93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F4C3-102A-476D-9698-CB18761C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8738-C36F-4524-ADDF-DAF8E7D1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AE4F8-1901-4B54-951C-118AEB07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31C3-BB9F-4A4D-BDCF-0DD2F89B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B17D-A2D3-4DEB-96F5-6E2A53F5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306-1105-4A52-8309-F02439F2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A333-C9CF-48DC-BDB0-254DB608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DC0B-AB85-4203-9A96-DE380091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0CC7-2890-4576-B3C5-14394388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EEF6-E496-4BDE-9C69-1EC843FB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CB50-EA4D-4731-AF74-EC82306E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5EB8-CCFF-466A-A019-DAB2A432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9BF9-1F13-42C6-B7E4-C1DB334B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5E6A4-0D06-4160-9435-CACF7805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46ECC-3F08-4045-A2EE-B7CEE227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749C-B2BE-403D-A331-B2DADE9E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D34-2A76-46D2-9546-4C910AF6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0D98-ED58-46ED-8AB9-5387A578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82E98-E6DE-43A9-B057-0F958242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CA444-5A75-4D17-9821-DADD1360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93A9-43B3-45E9-B874-8306BD7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6A089-A6CF-4587-93D7-DC192AC3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F3CE7-B953-4B65-B94E-466628B4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3B00E-35F2-44BE-A245-2AEA005F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0A391-46EB-4E6B-8968-BA6CB2BD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8F825-7F88-4C7B-B564-0B117F25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A78E2-FD1A-4165-9634-069C502E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22E-07C0-4C39-8594-BFC19F31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A35D-03FA-4E09-9CAC-449062E4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4E772-2B29-47D2-B5B7-7F3DFE9D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1B85A-9986-4A6B-A55A-4E2B504B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C610A-368C-486B-885C-19764A05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4DFF-00D7-464F-B451-0CDFB465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5E9B0-9372-4667-96AC-7D5E3FC5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418BC-A361-44A9-B11C-C80B665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2E7D-2737-493C-A4B9-69190389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AA951-2E6D-40C9-A644-D7C3575B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DBDB4-B00D-470C-B098-AA49403C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7E8-3558-4A77-9FA8-6A118DBA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510E3-227E-45C7-AE30-CB2F734E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34AFA-C73F-44B1-BFDE-55E322C1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F1A73-D67B-4836-95A3-F4A46710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0754C-FB67-46D2-9C9D-EE8F873D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B61C6-A97B-4D20-9CEE-A4E9E31D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67C4B-359F-4FBB-8684-9CB85042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D6465-DC66-4AD9-95C3-B61F6D65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D6A25-1554-43B2-8A4B-FEDA9EB7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F4476-AC8A-4A78-B2A1-8E41E39F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7F816-1ED3-4BE5-A813-5C9BC89E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0AD-5566-4B0A-94A4-DEDF07C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0FE1C-55A2-4C93-8532-7B28FF23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B605-E69E-4931-9E2A-769D35ED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5F950-1D5A-49FB-916D-A3110FB1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B007E-0F24-49CD-A69A-E6B3102A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8F7D3-E9C7-45D2-AE8C-5B60F001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0B714-7CBD-4F1F-AB90-C1D3D9AB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CB691-4522-4E4F-BF9C-8D254535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028D6-07AE-41F3-8BEC-D32B19E5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90998-D8BE-4066-9C40-BCECDE5A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77CAC-271D-4F56-990D-6764B3EE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E54-0941-4ED4-BB07-F58461E0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4CA1C-1390-4405-A305-A7DC58AD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FA53A-079B-4982-A9D2-33BF775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6F07-CA86-441D-8BEE-4CBF9F4F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57368-F545-4A84-B1B0-C790CE04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15EC5-62BE-45AD-8180-1E15F865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AA718-6FB3-4365-B2B5-30884F95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5C25D-BEA6-41EB-81B3-1C0F93DE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A4190-E7A4-4F8D-B354-7B203D4F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8E21A-8623-4B82-BEB2-3C3FDE2D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96822-88D3-4258-AE09-907311F0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C83-46AB-44C0-9A25-4A147D0A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8718B-B73C-4227-B58C-734B1331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76A8B-FBC3-4F29-855B-283CB59E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D462E-634C-4F7A-92BB-2204A484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12C14-50E6-4F26-8274-E8E31CE1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19156-AB33-4F74-863E-4ECF6431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69AB2-C84C-48DD-92A3-2857A9E9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EC758-14D0-4273-9345-362A8ABE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5ED6-5688-43B1-9535-5B0E8ADD9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3F14-ACDD-40D8-9D44-37BF2DF4208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BB8-F168-4A20-94AA-4FC5DDA10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2460-21A5-4D66-8728-BC36C9B357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82A1-01B8-4D9C-870F-EFE2A2FCC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78BF-D187-40C6-BECB-F4FB97EFD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F600-1509-4C77-B1F8-6ECEFF3AAD6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CA64-88D0-4E44-B63A-DFD4D666F7F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50428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1292400" y="3425760"/>
            <a:ext cx="65102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"/>
          <p:cNvSpPr/>
          <p:nvPr/>
        </p:nvSpPr>
        <p:spPr>
          <a:xfrm>
            <a:off x="3352680" y="1219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reek City-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polis cbcbcbcb.jpg"/>
          <p:cNvPicPr/>
          <p:nvPr/>
        </p:nvPicPr>
        <p:blipFill>
          <a:blip r:embed="rId2"/>
          <a:stretch/>
        </p:blipFill>
        <p:spPr>
          <a:xfrm>
            <a:off x="2133720" y="2286000"/>
            <a:ext cx="54147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3"/>
          <p:cNvSpPr/>
          <p:nvPr/>
        </p:nvSpPr>
        <p:spPr>
          <a:xfrm>
            <a:off x="1143000" y="129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udy of wisdom and the right way to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4" descr="philosophy cbcbcbcbcbcbcbcb.jpg"/>
          <p:cNvPicPr/>
          <p:nvPr/>
        </p:nvPicPr>
        <p:blipFill>
          <a:blip r:embed="rId2"/>
          <a:stretch/>
        </p:blipFill>
        <p:spPr>
          <a:xfrm>
            <a:off x="2819520" y="1905120"/>
            <a:ext cx="36432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1066680" y="1447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rea of land nearly surrounded by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5" descr="peninsula cbcbcbcbcb.jpg"/>
          <p:cNvPicPr/>
          <p:nvPr/>
        </p:nvPicPr>
        <p:blipFill>
          <a:blip r:embed="rId2"/>
          <a:stretch/>
        </p:blipFill>
        <p:spPr>
          <a:xfrm>
            <a:off x="1905120" y="2514600"/>
            <a:ext cx="516708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3"/>
          <p:cNvSpPr/>
          <p:nvPr/>
        </p:nvSpPr>
        <p:spPr>
          <a:xfrm>
            <a:off x="99072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ar between Athens and Sp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4" descr="p war cbcbcbcbcbcbcbcbcb.jpg"/>
          <p:cNvPicPr/>
          <p:nvPr/>
        </p:nvPicPr>
        <p:blipFill>
          <a:blip r:embed="rId2"/>
          <a:stretch/>
        </p:blipFill>
        <p:spPr>
          <a:xfrm>
            <a:off x="2057400" y="2514600"/>
            <a:ext cx="50292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609480" y="160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d of government that is run by a small group o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4" descr="Oligarchy cbcbcbcbcbcb.jpg"/>
          <p:cNvPicPr/>
          <p:nvPr/>
        </p:nvPicPr>
        <p:blipFill>
          <a:blip r:embed="rId2"/>
          <a:stretch/>
        </p:blipFill>
        <p:spPr>
          <a:xfrm>
            <a:off x="2438280" y="2590920"/>
            <a:ext cx="485784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3"/>
          <p:cNvSpPr/>
          <p:nvPr/>
        </p:nvSpPr>
        <p:spPr>
          <a:xfrm>
            <a:off x="16765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tered place along a coas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4" descr="Harbor cbcbcbcbcbcb.jpg"/>
          <p:cNvPicPr/>
          <p:nvPr/>
        </p:nvPicPr>
        <p:blipFill>
          <a:blip r:embed="rId2"/>
          <a:stretch/>
        </p:blipFill>
        <p:spPr>
          <a:xfrm>
            <a:off x="1828800" y="2743200"/>
            <a:ext cx="53053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2511360" y="-66600"/>
            <a:ext cx="3743280" cy="987480"/>
          </a:xfrm>
          <a:prstGeom prst="rect">
            <a:avLst/>
          </a:prstGeom>
          <a:ln w="0">
            <a:noFill/>
          </a:ln>
        </p:spPr>
      </p:pic>
      <p:sp>
        <p:nvSpPr>
          <p:cNvPr id="348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large hill which the Greeks built their city-stat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7" descr="Acropolis cbcbcbcbc.jpg"/>
          <p:cNvPicPr/>
          <p:nvPr/>
        </p:nvPicPr>
        <p:blipFill>
          <a:blip r:embed="rId2"/>
          <a:stretch/>
        </p:blipFill>
        <p:spPr>
          <a:xfrm>
            <a:off x="1228680" y="2209680"/>
            <a:ext cx="6696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2511360" y="-66600"/>
            <a:ext cx="3743280" cy="987480"/>
          </a:xfrm>
          <a:prstGeom prst="rect">
            <a:avLst/>
          </a:prstGeom>
          <a:ln w="0">
            <a:noFill/>
          </a:ln>
        </p:spPr>
      </p:pic>
      <p:sp>
        <p:nvSpPr>
          <p:cNvPr id="3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1447920" y="9144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lace where Greeks meet and conduct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7" descr="Agora cb.jpg"/>
          <p:cNvPicPr/>
          <p:nvPr/>
        </p:nvPicPr>
        <p:blipFill>
          <a:blip r:embed="rId2"/>
          <a:stretch/>
        </p:blipFill>
        <p:spPr>
          <a:xfrm>
            <a:off x="2133720" y="2057400"/>
            <a:ext cx="46958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3"/>
          <p:cNvSpPr/>
          <p:nvPr/>
        </p:nvSpPr>
        <p:spPr>
          <a:xfrm>
            <a:off x="1676520" y="15238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awmaking place where people voted on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4" descr="Assembly cbcb.jpg"/>
          <p:cNvPicPr/>
          <p:nvPr/>
        </p:nvPicPr>
        <p:blipFill>
          <a:blip r:embed="rId2"/>
          <a:stretch/>
        </p:blipFill>
        <p:spPr>
          <a:xfrm>
            <a:off x="1752480" y="2438280"/>
            <a:ext cx="531828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1676520" y="14479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erson who has certain rights and responsibilities to his or her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Citizens cbcbcbc.jpg"/>
          <p:cNvPicPr/>
          <p:nvPr/>
        </p:nvPicPr>
        <p:blipFill>
          <a:blip r:embed="rId2"/>
          <a:stretch/>
        </p:blipFill>
        <p:spPr>
          <a:xfrm>
            <a:off x="2590920" y="24382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TextBox 4"/>
          <p:cNvSpPr/>
          <p:nvPr/>
        </p:nvSpPr>
        <p:spPr>
          <a:xfrm>
            <a:off x="15238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roup of people who lived apart from Greece but kept economic 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5" descr="Colony cbcbcb.jpg"/>
          <p:cNvPicPr/>
          <p:nvPr/>
        </p:nvPicPr>
        <p:blipFill>
          <a:blip r:embed="rId2"/>
          <a:stretch/>
        </p:blipFill>
        <p:spPr>
          <a:xfrm>
            <a:off x="2057400" y="2666880"/>
            <a:ext cx="51228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1066680" y="1523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orm of government where people vote to make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Democrac cbcbcbcbcbcbcbc.jpg"/>
          <p:cNvPicPr/>
          <p:nvPr/>
        </p:nvPicPr>
        <p:blipFill>
          <a:blip r:embed="rId2"/>
          <a:stretch/>
        </p:blipFill>
        <p:spPr>
          <a:xfrm>
            <a:off x="1752480" y="2895480"/>
            <a:ext cx="580572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990720" y="1447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ear evidence and make decisions in a court of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Juryyyyy cbcbcbcbcbcb.jpg"/>
          <p:cNvPicPr/>
          <p:nvPr/>
        </p:nvPicPr>
        <p:blipFill>
          <a:blip r:embed="rId2"/>
          <a:stretch/>
        </p:blipFill>
        <p:spPr>
          <a:xfrm>
            <a:off x="1828800" y="2438280"/>
            <a:ext cx="5029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3"/>
          <p:cNvSpPr/>
          <p:nvPr/>
        </p:nvSpPr>
        <p:spPr>
          <a:xfrm>
            <a:off x="2286000" y="1523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headed by one l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4" descr="monarchyuyuyu cbcbcbc.jpg"/>
          <p:cNvPicPr/>
          <p:nvPr/>
        </p:nvPicPr>
        <p:blipFill>
          <a:blip r:embed="rId2"/>
          <a:stretch/>
        </p:blipFill>
        <p:spPr>
          <a:xfrm>
            <a:off x="2438280" y="2286000"/>
            <a:ext cx="43768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0:24:17Z</dcterms:modified>
  <cp:revision>91</cp:revision>
  <dc:subject/>
  <dc:title>Ancient Greece</dc:title>
</cp:coreProperties>
</file>